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0ED2-0B17-4434-8E48-1583110B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FBD-2DC1-41A7-9A25-E8C54410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B47-B09F-4639-91D5-9B05E43E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FCD-3102-42DA-87C9-3FEEA4F8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7C25-D344-494F-B7D5-28060137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65A1-AF10-41B3-8FDB-7396168E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1604-46C2-4425-9781-595C1B4F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1667-1FFA-44BD-9006-AB8F2126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D042-3B67-4445-833E-F4FA1DBB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CA34-0D72-4D07-A3EC-A6865674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7227-6007-4AF4-8859-CA3B7B9D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938-B0DF-46B6-A356-C9B90B45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D22D-A53E-44BC-8B1D-91FCE1B4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D90D-5FFD-4240-9769-8D332FA9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67F9-9727-4CD0-9FD7-78F96ED7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CF89-6AA7-4E11-BE08-C07E0ABE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AFE1-F6FA-48E4-8624-B5ACE9E0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13CA1-A0E4-48F8-B63F-AAEC357A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83BF4-1EDB-4564-BC6F-791B6D4D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05B1D-3C68-408E-ADD6-0C6083F0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23B78-DEC3-4020-B28B-46D47AC2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9DBD7-6670-4463-81F9-9BFBB635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2C52-EC5D-4F14-AC4D-487EB1F5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70AE0-C00A-406A-A85A-557EB2CC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829E4-FBA0-4241-AEF3-130A8D57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6C0FD-2C9F-440D-A6E4-639F9FF9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567E5-6044-4C96-B249-42E61A48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6A364-58E6-4700-B139-413E5D8A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7EFAB-4015-401D-9B32-70A13842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F4A38-DFC5-48B1-99DD-8964EB31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B5866-3CEE-486E-B41D-0A10095C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CEA41-1979-41CF-A1FE-98270952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8FC1D-6096-4AB9-9068-03AEFB6F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E9B-02ED-401F-954D-3F84D820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A1C0B-C1E9-4CBE-BC43-16A9251C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B1FD7-2820-418D-8225-E0D48B18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9F84E-BEE3-41BC-BBB5-E73EB7EE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585D0-DD24-409E-8D8C-E268F931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73E08-A0E6-4C56-B530-9AEA324C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3170F-5E46-4198-B878-09C1CC74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366A1-7357-42C6-A09A-0C7671FD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75B83-FC23-4749-ACA4-EB913566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F0E09-061D-46E9-A1ED-9F62FCB9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87DAE-D6A8-4EE7-A382-852A232A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CBCA-FE4D-454C-B50F-60BA8D8F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7EA6C-A4BD-40B4-B0BA-52C0991F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85C1C-0BA8-4C40-B44F-9372DC03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DF106-F40B-4628-90BF-2AED3EAD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16308-A91C-4EBD-9C1C-3CC91B56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B21FD-C0D9-4772-9F80-D4133480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C6EDC-4294-4E16-9793-DD9BCC22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5710E-6C92-4C29-8E26-4DE1AB64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44F20-2B8A-4E95-AFF6-F6FE5501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031A5-F962-4F50-9529-BB6B0090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2A015-C6CF-41B7-8FE3-6D348039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F92-05D6-4B17-AABE-C77C67FA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0B2C7-F59E-43D4-B594-9969D1AD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390A-C88C-479D-95CA-039BDD38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0FBB-564C-42FE-B518-ACB32601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37B4-0570-445F-89A6-EBEC3D59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. Bijoy Kun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A9CB-2C11-435E-A0C4-AE8DC6155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7315200" y="6435720"/>
            <a:ext cx="1266840" cy="250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Dr. Bijoy Kun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5CE1-9B13-45A4-800D-8B5BCD087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7191360" y="6391440"/>
            <a:ext cx="1495440" cy="295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. Bijoy Kun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BF44-CFA2-49CE-9BC6-52DB237A6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7191360" y="6413400"/>
            <a:ext cx="1495440" cy="295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. Bijoy Kun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3699-8388-4F66-BEAD-5C6B156C0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7086600" y="6397560"/>
            <a:ext cx="1495440" cy="2952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Dr. Bijoy Kun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D0F6-1BD9-40AD-8090-B05139CEF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amazon.in/Introduction-Medicinal-Chemistry-Bijoy-Kundu-ebook/dp/B0882YMV3F/ref=sr_1_1?crid=2C6NO3KVCFRWH&amp;dchild=1&amp;keywords=medicinal+chemistry+bijoy+kundu&amp;qid=1592314923&amp;sprefix=medicinal+chemistry+bijoy%2Caps%2C305&amp;sr=8-1" TargetMode="External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914400" y="91440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INTRODUCTION TO        MEDICINAL 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76320" y="6319800"/>
            <a:ext cx="21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r. Bijoy Kun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 rot="10800000">
            <a:off x="329760" y="2768400"/>
            <a:ext cx="762120" cy="251460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9"/>
          <p:cNvSpPr/>
          <p:nvPr/>
        </p:nvSpPr>
        <p:spPr>
          <a:xfrm rot="16200000">
            <a:off x="-394920" y="374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Wiley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3286440" y="3429000"/>
            <a:ext cx="24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Chapter 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"/>
          <p:cNvSpPr/>
          <p:nvPr/>
        </p:nvSpPr>
        <p:spPr>
          <a:xfrm>
            <a:off x="1828800" y="427176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Enzymes and digestion of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3824280" y="3281400"/>
            <a:ext cx="14954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Object 1"/>
          <p:cNvGraphicFramePr/>
          <p:nvPr/>
        </p:nvGraphicFramePr>
        <p:xfrm>
          <a:off x="457200" y="1600200"/>
          <a:ext cx="8170920" cy="42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17092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3"/>
          <p:cNvSpPr/>
          <p:nvPr/>
        </p:nvSpPr>
        <p:spPr>
          <a:xfrm>
            <a:off x="457200" y="383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window view to digestion of carbohydrates and absorption of membrane permeable component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533520" y="22525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s://www.amazon.in/Introduction-Medicinal-Chemistry-Bijoy-Kundu-ebook/dp/B0882YMV3F/ref=sr_1_1?crid=2C6NO3KVCFRWH&amp;dchild=1&amp;keywords=medicinal+chemistry+bijoy+kundu&amp;qid=1592314923&amp;sprefix=medicinal+chemistry+bijoy%2Caps%2C305&amp;sr=8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609480" y="914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nk to buy the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304920" y="380880"/>
            <a:ext cx="8534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gestive enzymes secreted in stomach, from pancreas and from enterocytes (intestinal brush-border enzym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gestion of protei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tein degradation): Exopeptidases and endopeptid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ymogens (Proenzymes): Gut secretion pepsinogen and     pancreatic zymo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 homeost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Digestion of lipi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mulsification and digestion, bile salts, pancreatic lipase, micelles and absorption of choles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Digestion of carbohyd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990720" y="2057400"/>
          <a:ext cx="7543800" cy="3365640"/>
        </p:xfrm>
        <a:graphic>
          <a:graphicData uri="http://schemas.openxmlformats.org/drawingml/2006/table">
            <a:tbl>
              <a:tblPr/>
              <a:tblGrid>
                <a:gridCol w="2232000"/>
                <a:gridCol w="2981160"/>
                <a:gridCol w="2330640"/>
              </a:tblGrid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rge dietary compone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ite of breakdown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oluble compone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rbohydrate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outh and small intes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imple sugar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tei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tomach and small intes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mino acid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ipids (fats)</a:t>
                      </a: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	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mall intes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atty acids + glycero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Rectangle 1"/>
          <p:cNvSpPr/>
          <p:nvPr/>
        </p:nvSpPr>
        <p:spPr>
          <a:xfrm>
            <a:off x="762120" y="6444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eakdown of macromolecular dietary components into membrane permeable frag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914400" y="1828800"/>
          <a:ext cx="7467480" cy="2944800"/>
        </p:xfrm>
        <a:graphic>
          <a:graphicData uri="http://schemas.openxmlformats.org/drawingml/2006/table">
            <a:tbl>
              <a:tblPr/>
              <a:tblGrid>
                <a:gridCol w="3319560"/>
                <a:gridCol w="4147920"/>
              </a:tblGrid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gestive enzyme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ite of secre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hydrase (e.g. Amylase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ivary glands, pancreas and small intes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ease (e.g. Pepsin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mach, pancreas and small intes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pase (e.g. Gastric lipase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ncreas and small intes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Rectangle 1"/>
          <p:cNvSpPr/>
          <p:nvPr/>
        </p:nvSpPr>
        <p:spPr>
          <a:xfrm>
            <a:off x="380880" y="45936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gestive enzymes used in the degradation of three major food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Object 1"/>
          <p:cNvGraphicFramePr/>
          <p:nvPr/>
        </p:nvGraphicFramePr>
        <p:xfrm>
          <a:off x="1752480" y="600120"/>
          <a:ext cx="5153040" cy="610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00120"/>
                    <a:ext cx="5153040" cy="61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3"/>
          <p:cNvSpPr/>
          <p:nvPr/>
        </p:nvSpPr>
        <p:spPr>
          <a:xfrm>
            <a:off x="785160" y="61560"/>
            <a:ext cx="75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window view to protein digestion and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1"/>
          <p:cNvGraphicFramePr/>
          <p:nvPr/>
        </p:nvGraphicFramePr>
        <p:xfrm>
          <a:off x="1371600" y="1143000"/>
          <a:ext cx="63244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143000"/>
                    <a:ext cx="63244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3"/>
          <p:cNvSpPr/>
          <p:nvPr/>
        </p:nvSpPr>
        <p:spPr>
          <a:xfrm>
            <a:off x="2461680" y="30636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e proteins in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"/>
          <p:cNvGraphicFramePr/>
          <p:nvPr/>
        </p:nvGraphicFramePr>
        <p:xfrm>
          <a:off x="1371600" y="1066680"/>
          <a:ext cx="6934320" cy="520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66680"/>
                    <a:ext cx="693432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3"/>
          <p:cNvSpPr/>
          <p:nvPr/>
        </p:nvSpPr>
        <p:spPr>
          <a:xfrm>
            <a:off x="2835360" y="38196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ein homeosta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1"/>
          <p:cNvGraphicFramePr/>
          <p:nvPr/>
        </p:nvGraphicFramePr>
        <p:xfrm>
          <a:off x="1523880" y="609480"/>
          <a:ext cx="61722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609480"/>
                    <a:ext cx="61722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3"/>
          <p:cNvSpPr/>
          <p:nvPr/>
        </p:nvSpPr>
        <p:spPr>
          <a:xfrm>
            <a:off x="228600" y="22860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window view to lipid digestion and absor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1"/>
          <p:cNvGraphicFramePr/>
          <p:nvPr/>
        </p:nvGraphicFramePr>
        <p:xfrm>
          <a:off x="536400" y="3679920"/>
          <a:ext cx="8083800" cy="20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3679920"/>
                    <a:ext cx="8083800" cy="20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3"/>
          <p:cNvGraphicFramePr/>
          <p:nvPr/>
        </p:nvGraphicFramePr>
        <p:xfrm>
          <a:off x="380880" y="1600200"/>
          <a:ext cx="848844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600200"/>
                    <a:ext cx="84884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4"/>
          <p:cNvGraphicFramePr/>
          <p:nvPr/>
        </p:nvGraphicFramePr>
        <p:xfrm>
          <a:off x="4513320" y="2679840"/>
          <a:ext cx="11592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13320" y="2679840"/>
                    <a:ext cx="1159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5"/>
          <p:cNvGraphicFramePr/>
          <p:nvPr/>
        </p:nvGraphicFramePr>
        <p:xfrm>
          <a:off x="4495680" y="609480"/>
          <a:ext cx="11592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609480"/>
                    <a:ext cx="1159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11T11:44:00Z</dcterms:created>
  <dc:creator>Dr. Kundu</dc:creator>
  <dc:description/>
  <dc:language>en-US</dc:language>
  <cp:lastModifiedBy>Uppal, Swati</cp:lastModifiedBy>
  <dcterms:modified xsi:type="dcterms:W3CDTF">2020-06-16T13:50:25Z</dcterms:modified>
  <cp:revision>37</cp:revision>
  <dc:subject/>
  <dc:title>Slide 1</dc:title>
</cp:coreProperties>
</file>