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300-984B-4E87-8168-C091C215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2B3-74FE-4BF9-BE00-0D53D2E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BEF-E8AF-40DC-B3E8-DEA162B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AB2-226A-4FA7-BF5F-ABEAA6B2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40CD-8F75-46A1-9FF8-9671346F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234-B2A8-4CEB-B4B7-F4DC021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83D-78DE-4359-A399-929E640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9411-531F-48C7-AAE4-8C9CF46C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1AC-0F01-4787-8A88-4BA2E30E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DD7-882C-45B2-B491-A8849083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90C6-C202-4DC9-AD25-61B607C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8D5-C230-40F5-8328-526E2749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ED9-DE03-4BAD-AB29-392F29B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B11-5C80-4CA2-AF31-59E43AD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D28-D4BD-4A68-A8EF-EEC1ECA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1FD-29AB-4655-B17E-0112623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DAE-FB21-41EF-8041-FB01A93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D0B-2983-47F1-9ACE-C8BC980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C79-70E0-4E2A-942F-3E0B11D3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973-9758-41B7-B939-54153A9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085-C120-4FC2-AC56-932D1E0C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F52-8FF8-4119-89FA-2CA86B9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CC0-AFAA-476C-910B-B15A9A73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88D-8EC7-4C07-B577-900660F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932-7A28-42E9-A101-6EF0F6D7E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172280" y="639144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C9BE-CA6B-4CD2-B550-901995F50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mazon.in/Introduction-Medicinal-Chemistry-Bijoy-Kundu-ebook/dp/B0882YMV3F/ref=sr_1_1?crid=2C6NO3KVCFRWH&amp;dchild=1&amp;keywords=medicinal+chemistry+bijoy+kundu&amp;qid=1592314923&amp;sprefix=medicinal+chemistry+bijoy%2Caps%2C305&amp;sr=8-1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914400" y="91440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INTRODUCTION TO        MEDICINAL 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84200" y="60958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r. Bijoy Kun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10800000">
            <a:off x="329760" y="2768400"/>
            <a:ext cx="762120" cy="25146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 rot="16200000">
            <a:off x="-394920" y="374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Wiley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286440" y="34290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828800" y="427176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Enzymes and digestio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156440" y="6180120"/>
            <a:ext cx="1495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457200" y="1600200"/>
          <a:ext cx="817092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709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3"/>
          <p:cNvSpPr/>
          <p:nvPr/>
        </p:nvSpPr>
        <p:spPr>
          <a:xfrm>
            <a:off x="457200" y="38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digestion of carbohydrates and absorption of membrane permeable component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42960" y="2546280"/>
            <a:ext cx="60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amazon.in/Introduction-Medicinal-Chemistry-Bijoy-Kundu-ebook/dp/B0882YMV3F/ref=sr_1_1?crid=2C6NO3KVCFRWH&amp;dchild=1&amp;keywords=medicinal+chemistry+bijoy+kundu&amp;qid=1592314923&amp;sprefix=medicinal+chemistry+bijoy%2Caps%2C305&amp;sr=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600200" y="154296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 to buy the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38088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gestive enzymes secreted in stomach, from pancreas and from enterocytes (intestinal brush-border enzy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gestion of prote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ein degradation): Exopeptidases and endopeptid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mogens (Proenzymes): Gut secretion pepsinogen and     pancreatic zym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gestion of 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mulsification and digestion, bile salts, pancreatic lipase, micelles and absorption of choles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gestion of 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90720" y="2057400"/>
          <a:ext cx="7543800" cy="3365640"/>
        </p:xfrm>
        <a:graphic>
          <a:graphicData uri="http://schemas.openxmlformats.org/drawingml/2006/table">
            <a:tbl>
              <a:tblPr/>
              <a:tblGrid>
                <a:gridCol w="2232000"/>
                <a:gridCol w="2981160"/>
                <a:gridCol w="2330640"/>
              </a:tblGrid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rge dietary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breakdow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uble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hydrat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ut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mple sug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i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omac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o aci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pids (fats)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	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tty acids + glycer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"/>
          <p:cNvSpPr/>
          <p:nvPr/>
        </p:nvSpPr>
        <p:spPr>
          <a:xfrm>
            <a:off x="762120" y="64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down of macromolecular dietary components into membrane permeable fra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1828800"/>
          <a:ext cx="7467480" cy="2944800"/>
        </p:xfrm>
        <a:graphic>
          <a:graphicData uri="http://schemas.openxmlformats.org/drawingml/2006/table">
            <a:tbl>
              <a:tblPr/>
              <a:tblGrid>
                <a:gridCol w="3319560"/>
                <a:gridCol w="414792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ve enzym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secre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hydrase (e.g. Amyl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vary glands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ase (e.g. Pepsi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mach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pase (e.g. Gastric lip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"/>
          <p:cNvSpPr/>
          <p:nvPr/>
        </p:nvSpPr>
        <p:spPr>
          <a:xfrm>
            <a:off x="380880" y="459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gestive enzymes used in the degradation of three major foo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"/>
          <p:cNvGraphicFramePr/>
          <p:nvPr/>
        </p:nvGraphicFramePr>
        <p:xfrm>
          <a:off x="1752480" y="600120"/>
          <a:ext cx="5153040" cy="61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0120"/>
                    <a:ext cx="515304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3"/>
          <p:cNvSpPr/>
          <p:nvPr/>
        </p:nvSpPr>
        <p:spPr>
          <a:xfrm>
            <a:off x="785160" y="615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protein digestion and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1371600" y="1143000"/>
          <a:ext cx="6324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324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3"/>
          <p:cNvSpPr/>
          <p:nvPr/>
        </p:nvSpPr>
        <p:spPr>
          <a:xfrm>
            <a:off x="2461680" y="3063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proteins i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1371600" y="1066680"/>
          <a:ext cx="693432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9343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2835360" y="381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523880" y="609480"/>
          <a:ext cx="6172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09480"/>
                    <a:ext cx="6172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3"/>
          <p:cNvSpPr/>
          <p:nvPr/>
        </p:nvSpPr>
        <p:spPr>
          <a:xfrm>
            <a:off x="228600" y="22860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lipid digestion and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536400" y="3679920"/>
          <a:ext cx="808380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679920"/>
                    <a:ext cx="80838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380880" y="1600200"/>
          <a:ext cx="8488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488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4513320" y="2679840"/>
          <a:ext cx="1159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3320" y="267984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5"/>
          <p:cNvGraphicFramePr/>
          <p:nvPr/>
        </p:nvGraphicFramePr>
        <p:xfrm>
          <a:off x="4495680" y="609480"/>
          <a:ext cx="1159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60948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11:44:00Z</dcterms:created>
  <dc:creator>Dr. Kundu</dc:creator>
  <dc:description/>
  <dc:language>en-US</dc:language>
  <cp:lastModifiedBy>Uppal, Swati</cp:lastModifiedBy>
  <dcterms:modified xsi:type="dcterms:W3CDTF">2020-06-16T14:03:39Z</dcterms:modified>
  <cp:revision>37</cp:revision>
  <dc:subject/>
  <dc:title>Slide 1</dc:title>
</cp:coreProperties>
</file>